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06473"/>
        <c:axId val="66003234"/>
      </c:barChart>
      <c:catAx>
        <c:axId val="61806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03234"/>
        <c:crosses val="autoZero"/>
        <c:auto val="1"/>
        <c:lblAlgn val="ctr"/>
        <c:lblOffset val="100"/>
        <c:noMultiLvlLbl val="0"/>
      </c:catAx>
      <c:valAx>
        <c:axId val="660032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06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F715-F357-4400-B09C-B82448D0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CF7C-E9BF-4C20-AB97-FF2308AD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6197-1F2D-4DAC-8AEE-B5A10F95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B5FE-29E2-48FD-A8F6-C6428209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38F-5B3B-4EEB-A919-580E63F4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3CA7-2506-4889-8168-249BF7FF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E097-A6DF-4DAD-A6C9-035E354C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4DC4-5EA2-4B27-9666-56C54F93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8C52-DF42-4CED-9049-93057BD2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EE5E-E45D-42DD-B801-8FC8C4EC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77A1-CE6B-449A-8BC0-665DE878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F700-8CA0-49F0-8789-5685CC17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C5488-E442-417E-BDA6-4A395437AF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